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gif" ContentType="image/gif"/>
  <Override PartName="/ppt/media/image2.wmf" ContentType="image/x-wmf"/>
  <Override PartName="/ppt/media/image3.jpeg" ContentType="image/jpe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615-AE4C-41A7-9929-4778CED4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AF5-6111-40BB-9DBC-59FB515F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875-E1FF-4756-AE87-0CC84A51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3F4-3D62-4D83-9E73-F7AD94DA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B30C-296C-4054-811D-63D6D984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0E87-9AEE-4228-AC8A-3FA4AC9B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A41A-4B11-45F6-9E0B-6EF656F9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5E30-1964-401E-BDD2-537F0272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45B4-D5DC-4384-8CDF-7CF6184C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279C-3CC6-45BA-9889-268407EE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57EA-8BCF-438E-8B5F-6ABB3AD1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3B2-E7A9-4B83-8267-212883F2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3EF1-AA1E-4698-ADAF-5950ECAC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3DB6-F166-4A71-83EB-06F1FEF8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2D52-2F3D-4AE6-B154-3E50A952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6A0E-F074-4192-8C9D-C61939A0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9675-7DD7-4551-8B25-3A7FFA78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7CB-D4CB-405D-ACCF-686962E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0E5-8803-496C-A697-61945E9C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2F8-13C5-4984-B212-A35D42D9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DC3-7E90-4C11-8ED4-4500C265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487-42C3-4B1B-AACC-7FC8EA77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8AE-A35E-4016-BA7E-F1269D65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C94-32E0-4B57-B871-67CFF2E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A483-EE45-44C6-BDE0-687C49FE4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2012-823F-42EF-B8FC-6506F896D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HISTORIA MATEMATYKI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RÓŻ Z MATEMATYKAM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 STAROŻYTNEJ GRE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Archimed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racował metody obliczania pola powierzchni i objętości bry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zacował liczbę 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krył słynne prawo fizyki, zwane prawem Archimede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onstruował wiele urządzeń technicznych, ułatwiających życ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Słynne powiedzenia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        Archimedesa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jcie mi punkt oparcia, a poruszę ziemię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eka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DIOFANTOS z Aleksandrii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 III wiek n.e. 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ierwszy matematyk, który zajął się algebr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ego główne dzieło to „Arithmetica” składająca się z 13 ksią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97200" y="1989000"/>
            <a:ext cx="1809720" cy="26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6600"/>
                </a:solidFill>
                <a:latin typeface="Arial Black"/>
              </a:rPr>
              <a:t>Zadanie </a:t>
            </a:r>
            <a:br>
              <a:rPr sz="4400"/>
            </a:br>
            <a:r>
              <a:rPr b="1" lang="pl-PL" sz="4400" spc="-1" strike="noStrike">
                <a:solidFill>
                  <a:srgbClr val="cc6600"/>
                </a:solidFill>
                <a:latin typeface="Arial Black"/>
              </a:rPr>
              <a:t>z „Epitafium Diofanta”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"Przechodniu: Tu spoczywa Diofantos. Szósta część jego życia była radosnym dzieciństwem, część dwunasta wiekiem młodzieńczym. Jeszcze siódma część życia przeminęła zanim się ożenił, a w pięć lat póżniej narodził mu się syn, któremu los dał życie o połowę krótsze niż ojcu. Po śmierci syna cztery jeszcze lata żył Diofantos. Powiedz, ile lat przeżył"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5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5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6600"/>
                </a:solidFill>
                <a:latin typeface="Arial Black"/>
              </a:rPr>
              <a:t>Diofanto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wiązywał równania do trzeciego stopnia włączn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 pierwszego języka algebraiczn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sował symbol odejmowania i skróty słowne na określenie działa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ARYABHATA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VI w. 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27640" y="1904760"/>
            <a:ext cx="4417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matyk hindusk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ał sposób obliczania pierwiastków z liczb dodatni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racował tablice trygonometryczne wartości sinu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1942920" cy="26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MUHAMMAD IBN MUSA 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AL-CHWARIZMI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IX w. 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5640" y="2276640"/>
            <a:ext cx="48499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worzył początki nowej gałęzi matematyki-algeb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zięki niemu Europa poznała pozycyjny dziesiątkowy system liczenia, a cyfry arabskie pojawiły się w matematyce światowe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1730520" cy="246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MIKOŁAJ KOPERNIK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1473-15430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55640" y="1904760"/>
            <a:ext cx="4489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ybitny astron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go dzieł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obrotach sfer niebieskich” zapoczątkowało nową epokę, inne spojrzenie na świa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2198520" cy="25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Mikołaj Kopernik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konał pomiaru długości roku (365 dni 5 godzin 55 minut 58 sekund), który stał się podstawą reformy kalendarza. Kalendarz ten, zwany gregoriańskim, obowiązuje do dziś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formułował prawo ekonomii mówiące, że pieniądz gorszy wypiera pieniądz lepsz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matykę traktował jako doskonałe narzędzie do opisywania wszechświ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RENE DESKARTES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KARTEZJUSZ)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1596-1650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40360" y="1905120"/>
            <a:ext cx="4705200" cy="39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ybitny matematyk, uczony, filozof, racjonalis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Głosił idee o potędze ludzkiego rozumu.Jego słynne „cogito ergo sum” (myślę więc jestem) znane jest do dziś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2109600" cy="25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6600"/>
                </a:solidFill>
                <a:latin typeface="Arial Black"/>
              </a:rPr>
              <a:t>TALES z Miletu</a:t>
            </a:r>
            <a:br>
              <a:rPr sz="4400"/>
            </a:br>
            <a:r>
              <a:rPr b="1" lang="pl-PL" sz="4400" spc="-1" strike="noStrike">
                <a:solidFill>
                  <a:srgbClr val="cc6600"/>
                </a:solidFill>
                <a:latin typeface="Arial Black"/>
              </a:rPr>
              <a:t>(624-547 p.n.e.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0000" y="1844640"/>
            <a:ext cx="500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cki matematyk i filozo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zięki podróżom poznawał umiejętności matematyków,  astronomów egipskich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babiloński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2305080" cy="27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Kartezjusz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żdemu punktowi płaszczyzny przypisał parę liczb.Do dziś prostokątny układ współrzędnych nazywamy kartezjańsk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traktacie „Geometria” przedstawił podstawy geometrii analitycznej i algeb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prowadził do matematyki pojęcie funkcji oraz zmiennej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PIERRE DE FERMAT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1601-1665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24360" y="1905120"/>
            <a:ext cx="4921200" cy="39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odził się we Francj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 zawodu prawnik. Matematyką zajmował się tylko w czasie wolnym od zajęć.                Odkrył metodę znajdowania maksimó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minimów funkcji algebraiczny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órca wielkiego twierdzenia Ferm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89160" y="1989000"/>
            <a:ext cx="194940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BLAISE PASCAL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1623-1662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00360" y="1905120"/>
            <a:ext cx="434484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odził się we Francji. Podał sposób obliczania współczynników Newtona dla n potęgi dwumianu (tworzą one tzw. trójkąt Pascal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historii filozofii przeszedł tzw.”zakład Pasca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024000" cy="25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Zakład Pascala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ewiele się ryzykuje postępując w życiu tak, jak gdyby Bóg istnia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śli jest to tylko urojenie, to i tak wszystko się kończy z chwilą śmierc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śli natomiast jest to prawdą wygrywa się całą stawkę nieśmiertelności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LEONHARD EULER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1707-1783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066920" y="1905120"/>
            <a:ext cx="477828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odził się w Szwajcarii.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zyk, astrono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ybitny matematy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począł badania, które doprowadziły do powstania nowej dziedziny matematyki-topolog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2068560" cy="25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6600"/>
                </a:solidFill>
                <a:latin typeface="Arial Black"/>
              </a:rPr>
              <a:t>Leonhard Euler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ego dzieło „Wstęp do analizy nieskończenie małych” zawiera prawie wszystko co obecnie wykłada się w zakresie analizy matematycznej i algebry wyższe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prowadził funkcje zespolone zmiennej zespolonej, rozwinął teorię równań różniczkowy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wórca słynnego twierdzenia z geometrii, tzw. Twierdzenia Eule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STEFAN BANACH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1892-1945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76360" y="1904760"/>
            <a:ext cx="5568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eden z najwybitniejszych matematyków XX wiek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ego nazwiskiem nazwano pewne przestrzenie i algeb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ajwiększe osiągnięcia uzyskał w analizie funkcjonalnej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 jego nazwiskiem wiąże się paradoks Banacha-Tarskie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192564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HUGO STEINHAUS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1887-1972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634920" y="1904760"/>
            <a:ext cx="521028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eden z najwybitniejszych matematyków XX wiek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twórca lwowskiej szkoły matematycznej i współredaktor czasopisma „Studia Mathematic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opularyzator matematyk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d 1938 r. do dzisiaj wydawany jest i tłumaczony na kilkanaście języków „Kalejdoskop Matematyczny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6240" y="1989000"/>
            <a:ext cx="2073240" cy="25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4160" y="304560"/>
            <a:ext cx="7089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MATEMATYK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arzyszy człowiekowi od zarania dziejó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t nieodłączną częścią natury i historii ludzkośc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konały język opisywania zjawisk i prawidłowośc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4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pracowała Grażyna Bogucka-Zbroni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6600"/>
                </a:solidFill>
                <a:latin typeface="Arial Black"/>
              </a:rPr>
              <a:t>Tal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Uzasadnił twierdzenie zwane twierdzeniem Tales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trafił wymierzyć wysokość pirami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 pomocą cienia,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 podstawie podobieństwa trójkątó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91040" y="2278080"/>
            <a:ext cx="3780000" cy="34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6600"/>
                </a:solidFill>
                <a:latin typeface="Arial Black"/>
              </a:rPr>
              <a:t>Tales stwierdził, że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ąty wierzchołkowe są rów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ąt środkowy oparty na półokręgu jest kątem prosty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ąty wpisane w okrąg oparte na tym samym łuku są rów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ąty przy podstawie w trójkącie równoramiennym sąrów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Średnica dzieli koło na połow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6600"/>
                </a:solidFill>
                <a:latin typeface="Arial Black"/>
              </a:rPr>
              <a:t>PITAGORAS z Samos</a:t>
            </a:r>
            <a:br>
              <a:rPr sz="4400"/>
            </a:br>
            <a:r>
              <a:rPr b="1" lang="pl-PL" sz="4400" spc="-1" strike="noStrike">
                <a:solidFill>
                  <a:srgbClr val="cc6600"/>
                </a:solidFill>
                <a:latin typeface="Arial Black"/>
              </a:rPr>
              <a:t>(570- 497 p.n.e.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50920" y="1904760"/>
            <a:ext cx="499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cki filozof,matematy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założyciel słynne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koły pitagorejskiej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zięki podróżom poznał osiągnięcia matematyczn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stronomiczne Egipcj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Babilończykó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208908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Pitagora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zasadnił twierdzenie zwane twierdzeniem Pitagor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krył liczby niewymier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formułował twierdzenie o sumie kątów w trójkącie, czworokącie i wielokątach foremny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mował się wielościanami foremnymi i kul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EUKLIDES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365- 300 p.n.e.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11640" y="191592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r dzieła „Elementy”, pierwszego podręcznika matematyki, według którego na całym świecie uczono geometrii ponad dwa tysiące la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2062080" cy="27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Anegdot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1356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 pytanie króla Ptolemeusza, czy nie ma krótszych dróg wiodących do geometrii, Euklides odpowiedział: ”W geometrii nie ma specjalnych dróg,  nawet dla królów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944720" cy="284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ARCHIMEDES</a:t>
            </a:r>
            <a:br>
              <a:rPr sz="4400"/>
            </a:b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(287- 212 p.n.e. )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matyk, fizy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konstruktor maszyn. Uważany za jednego z najwybitniejszych uczonych starożytnoś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1905120"/>
            <a:ext cx="2448000" cy="27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9:59:35Z</dcterms:created>
  <dc:creator>Administrator</dc:creator>
  <dc:description/>
  <dc:language>en-US</dc:language>
  <cp:lastModifiedBy>Administrator</cp:lastModifiedBy>
  <dcterms:modified xsi:type="dcterms:W3CDTF">2003-04-04T12:16:21Z</dcterms:modified>
  <cp:revision>29</cp:revision>
  <dc:subject/>
  <dc:title>HISTORIA MATEMATYKI</dc:title>
</cp:coreProperties>
</file>